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E567-42B8-4E0B-8ECE-9AADD35F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636B-4F53-4FEE-B218-7CAA0A06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C07E-B80D-441E-94AB-9A5D427C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40E4-C402-4DDF-B633-8728EEE1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09E-5E2D-47D8-95A1-AD72E8B8E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0E44-8EDF-4663-A125-F541C977D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DBF2-F19C-44A5-8D34-A9F7CC3D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9CCB-81DB-43F7-B05F-B712B2282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A8DA-DCD0-4A15-9B48-3EC2D4AC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E0D-568B-4D00-85FD-299512A0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9DB-B90D-4394-859F-0D63DD1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879-9338-45D4-852F-74EDEA8A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430-1956-4FC4-922C-FDCA2DD7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578-86B4-4043-8D4E-BDEED06F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1ED-9E99-437C-9B11-AE8EA1A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B7C-CB3B-494D-AE39-36A8C5A6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26A-55E9-4576-B321-605AAD9D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33F-E4EA-41C3-B114-8A7A034B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DAD-25C4-4B98-9EDC-471AA078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122-C09B-4B88-B21A-FBFAE238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A7A-5834-4986-B4BD-1EF57F8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E06B-4C49-4D2E-B381-3C334963D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lu0dzK4db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8-3 Excretory System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waste leaves the body through the anus (end of col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liquid was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liquid absorbed from small and large intestine enters the blood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n brought to the kidneys where the liquid is filtered.  This is the excretory syst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metabolic wastes ar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s 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aste products from the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blood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water content of blood (blood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pic>
        <p:nvPicPr>
          <p:cNvPr id="53" name="Picture 4" descr="Kidney: Illustration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The Nephr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units of the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1 million nephrons in each kidne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nephron is in the renal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of Henle is in medu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kidney_function1"/>
          <p:cNvPicPr/>
          <p:nvPr/>
        </p:nvPicPr>
        <p:blipFill>
          <a:blip r:embed="rId1"/>
          <a:stretch/>
        </p:blipFill>
        <p:spPr>
          <a:xfrm>
            <a:off x="4915080" y="2133720"/>
            <a:ext cx="4228920" cy="4228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5257800" y="5638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op of Hen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6477120" y="5715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iltra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, urea, glucose,salts, amino acids and some vitamins are filtered out of the bl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lled the filtr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protei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and platelets remain i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52320" y="2865600"/>
            <a:ext cx="5791320" cy="39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glomerulus_illustration"/>
          <p:cNvPicPr/>
          <p:nvPr/>
        </p:nvPicPr>
        <p:blipFill>
          <a:blip r:embed="rId1"/>
          <a:stretch/>
        </p:blipFill>
        <p:spPr>
          <a:xfrm>
            <a:off x="3429000" y="303840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Reabsorp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amount of the filtrate is reabsorbed back into the capillaries surrounding the Loop of Hen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ever is left in loop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ine goe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collecting du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eter to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http://www.custodiol.com/images/pageimages/3_kidney.jpg"/>
          <p:cNvPicPr/>
          <p:nvPr/>
        </p:nvPicPr>
        <p:blipFill>
          <a:blip r:embed="rId1"/>
          <a:stretch/>
        </p:blipFill>
        <p:spPr>
          <a:xfrm>
            <a:off x="5029200" y="3809880"/>
            <a:ext cx="394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Problems with the kidney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idney sto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posits of calcium, salts, or magnesium crystallize and form stones, block the ur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removed, very pain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n down until they are small enough to p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wo kidneys but we can survive with just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ialy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vailable when both kidneys f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Video of Nephron Func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lu0dzK4dbU&amp;feature=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MVanElli</cp:lastModifiedBy>
  <dcterms:modified xsi:type="dcterms:W3CDTF">2010-10-21T13:57:49Z</dcterms:modified>
  <cp:revision>26</cp:revision>
  <dc:subject/>
  <dc:title>Cell resp</dc:title>
</cp:coreProperties>
</file>